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1F1A-96FD-4446-AB68-09D691C7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8E61-2BB9-4AB4-8BD7-A61B50C8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2313-DEA1-4053-9351-684DE917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6BF-4AC0-466A-A34F-417CD101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A80-B19C-4CB7-B4F7-760B2BDF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5271-5CAD-4F07-A602-61C2208A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2DBA-4387-4B67-8D56-E2509C4D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E363-7248-496B-98AA-E35A4C5E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5306-6B5A-48F4-B472-579B0FDD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111E-BDB8-49FF-A33D-DBDC2462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F574-41ED-4C9F-83D5-F1D22160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F8E1-5341-4B83-9EC6-61CBDBAE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4433-742E-4A8D-9202-37AA08A19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04680" y="3505320"/>
            <a:ext cx="569988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(aka. FOREX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1560" y="5486400"/>
            <a:ext cx="81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hange Rate = Relative Price of Curr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25162" r="0" b="0"/>
          <a:stretch/>
        </p:blipFill>
        <p:spPr>
          <a:xfrm>
            <a:off x="3276720" y="838080"/>
            <a:ext cx="2509560" cy="2495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0"/>
            <a:ext cx="845820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EX Supply and Demand Simplified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295280"/>
            <a:ext cx="914400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90000"/>
                </a:solidFill>
                <a:latin typeface="Times New Roman"/>
              </a:rPr>
              <a:t>Imagine a huge table with all the different currencies from every countr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99"/>
                </a:solidFill>
                <a:latin typeface="Times New Roman"/>
              </a:rPr>
              <a:t>This is the Foreign Exchange Market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Arial"/>
              </a:rPr>
              <a:t>Just like at a product market, you can’t take things without paying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</a:t>
            </a:r>
            <a:r>
              <a:rPr b="1" lang="en-US" sz="33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emand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Arial"/>
              </a:rPr>
              <a:t> one currency,  you must </a:t>
            </a:r>
            <a:r>
              <a:rPr b="1" lang="en-US" sz="33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upply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Arial"/>
              </a:rPr>
              <a:t> your currenc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00800" y="4952880"/>
            <a:ext cx="2552760" cy="1700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457200" y="4729320"/>
            <a:ext cx="56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Ex: If Canadians what Russian Rubles. The demand for Rubles in the FOREX market will increase and the supply of Canadian Dollars will incr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2895480"/>
            <a:ext cx="864396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FOREX Shift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396252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et’s use the example of the US Dollar and the British 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228600"/>
            <a:ext cx="8643960" cy="62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1. Changes in Tastes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99"/>
                </a:solidFill>
                <a:latin typeface="Times New Roman"/>
              </a:rPr>
              <a:t>Ex: British tourists flock to the U.S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Arial"/>
              </a:rPr>
              <a:t>Demand for U.S. dollars increases (shifts right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Arial"/>
              </a:rPr>
              <a:t>Supply of British pounds increases (shifts right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99"/>
                </a:solidFill>
                <a:latin typeface="Times New Roman"/>
                <a:ea typeface="Arial"/>
              </a:rPr>
              <a:t>Pound-depreciat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99"/>
                </a:solidFill>
                <a:latin typeface="Times New Roman"/>
                <a:ea typeface="Arial"/>
              </a:rPr>
              <a:t>Dollar-appreciat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2. Changes in Relative Incomes (Resulting in more imports)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99"/>
                </a:solidFill>
                <a:latin typeface="Times New Roman"/>
              </a:rPr>
              <a:t>Ex: US growth increase US incomes…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Arial"/>
              </a:rPr>
              <a:t>U.S. buys more imports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Arial"/>
              </a:rPr>
              <a:t>U.S. Demand for pounds incre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Arial"/>
              </a:rPr>
              <a:t>Supply of U.S. dollars incre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95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99"/>
                </a:solidFill>
                <a:latin typeface="Times New Roman"/>
                <a:ea typeface="Arial"/>
              </a:rPr>
              <a:t>	</a:t>
            </a:r>
            <a:r>
              <a:rPr b="1" lang="en-US" sz="2900" spc="-1" strike="noStrike">
                <a:solidFill>
                  <a:srgbClr val="333399"/>
                </a:solidFill>
                <a:latin typeface="Times New Roman"/>
                <a:ea typeface="Arial"/>
              </a:rPr>
              <a:t>Pound- appreciat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95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99"/>
                </a:solidFill>
                <a:latin typeface="Times New Roman"/>
                <a:ea typeface="Arial"/>
              </a:rPr>
              <a:t>	</a:t>
            </a:r>
            <a:r>
              <a:rPr b="1" lang="en-US" sz="2900" spc="-1" strike="noStrike">
                <a:solidFill>
                  <a:srgbClr val="333399"/>
                </a:solidFill>
                <a:latin typeface="Times New Roman"/>
                <a:ea typeface="Arial"/>
              </a:rPr>
              <a:t>Dollar- depreciat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228600"/>
            <a:ext cx="8643960" cy="65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3. Changes in Relative Price Level (Resulting in more imports)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x: US prices increase relative to Britain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U.S. demand for cheaper imports increases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U.S. demand for pound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upply of U.S. dollar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Pound- appreci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Dollar- depreci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4. Changes in relative Interest Rates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x: US has a higher interest rate than Britain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ritish people want to put money in US b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apital Flow increase towards the U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ritish demand for U.S. dollars increases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ritish supply more pou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Pound-depreci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Dollar- appreci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438280" y="152280"/>
            <a:ext cx="434340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99"/>
                </a:solidFill>
                <a:latin typeface="Times New Roman"/>
              </a:rPr>
              <a:t>Practic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9480"/>
            <a:ext cx="902484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99"/>
                </a:solidFill>
                <a:latin typeface="Times New Roman"/>
              </a:rPr>
              <a:t>For each of the following examples, identify what will happen to the value of US Dollars and Japanese Yen.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447920"/>
            <a:ext cx="8643960" cy="49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merican tourists increase visits to Jap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he US government significantly decreases personal income ta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Inflation in the Japan rises significantly faster than in the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Japan has a large budget deficit that increases Japanese interest ra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Japan places high tariffs on all US impo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he US suffers a larger rec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he US Federal Reserve sells bonds at high interest ra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372360"/>
            <a:ext cx="902484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99"/>
                </a:solidFill>
                <a:latin typeface="Times New Roman"/>
              </a:rPr>
              <a:t>How do these scenarios affect exports and imports?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38280" y="152280"/>
            <a:ext cx="434340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99"/>
                </a:solidFill>
                <a:latin typeface="Times New Roman"/>
              </a:rPr>
              <a:t>Practic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09480"/>
            <a:ext cx="902484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99"/>
                </a:solidFill>
                <a:latin typeface="Times New Roman"/>
              </a:rPr>
              <a:t>For each of the following examples, identify what will happen to the value of US Dollars and Japanese Yen.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447920"/>
            <a:ext cx="864396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USD depreciates and Yen appreciat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USD depreciates and Yen appreciat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USD appreciates and Yen depreci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USD depreciates and Yen appreci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USD depreciates (Demand Falls) and Yen appreciates (Supply Fa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USD appreciates (Supply Falls) and Yen depreciates (Demand Fa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USD appreciates and Yen depreci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486400"/>
            <a:ext cx="902484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99"/>
                </a:solidFill>
                <a:latin typeface="Times New Roman"/>
              </a:rPr>
              <a:t>Scenarios 1, 2, and 4 will increase US exports because US products are now relatively “cheaper”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ideo: Down and Out Dolla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Exports and Im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6094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US sells cars to 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Mexico buys tractors from 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Canada sells syrup to the U.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Japan buys Fireworks from Mexico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819520"/>
            <a:ext cx="88390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493560" indent="-49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 all these transactions, there are different national currenc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country must be paid in their own curr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uyer (importer) must exchange  their currency for that of the sellers (exporter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5181840" cy="2573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turnover in FOREX markets is almost $4 trillion (USD) a da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056320"/>
            <a:ext cx="294012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urrency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D = US Dol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 = Eu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PY = Japanese Y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BP = British P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F = Swiss Fran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 = Canadian Dol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 = Australian Dol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ZD = New Zealand Dol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10626" t="21002" r="39376" b="8999"/>
          <a:stretch/>
        </p:blipFill>
        <p:spPr>
          <a:xfrm>
            <a:off x="152280" y="123840"/>
            <a:ext cx="769644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36840" y="152280"/>
            <a:ext cx="407376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99"/>
                </a:solidFill>
                <a:latin typeface="Times New Roman"/>
              </a:rPr>
              <a:t>Exchange Rate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685800"/>
            <a:ext cx="8643960" cy="60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In the FOREX market we only look at two countries/currencies at a time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Ex: US Dollars and British 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examine the price of one currency in terms of the other currency.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Ex:$2 = £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xchange Rate depends on which currency you are convert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e price of one US Dollar in terms of Pounds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1 Dollar = £1/$2 =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£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e price of one Pound in terms of Dollars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1 Pound = $2/£1 =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$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0"/>
            <a:ext cx="8763120" cy="67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happens if you need more dollar to buy one pound (the price for a pound increases)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Ex: From $2=£1 to $5=£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U.S. Dollar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DEPRECIAT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relative to the P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Times New Roman"/>
              </a:rPr>
              <a:t>Deprec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he loss of value of a country's currency with respect to a foreign curr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More units of dollars are needed to buy a single unit of the other currency.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ollar is said to be “Weaker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0"/>
            <a:ext cx="8763120" cy="67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happens if you need less dollar to buy one pound (the price for a pound decreases)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Ex: From $2=£1 to $1=£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U.S. Dollar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APPRECIAT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relative to the P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Times New Roman"/>
              </a:rPr>
              <a:t>Apprec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he increase of value of a country's currency with respect to a foreign curr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Less units of dollars are needed to buy a single unit of the other currency.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ollar is said to be “Stronger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18000" y="3573360"/>
            <a:ext cx="0" cy="2392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23960" y="3560760"/>
            <a:ext cx="28828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31600" y="0"/>
            <a:ext cx="5963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99"/>
                </a:solidFill>
                <a:latin typeface="Times New Roman"/>
              </a:rPr>
              <a:t>S&amp;D for the US Dollar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09480"/>
            <a:ext cx="175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ce of US 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84240" y="6031080"/>
            <a:ext cx="41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7920" y="1370160"/>
            <a:ext cx="4221000" cy="422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538360" y="1272960"/>
            <a:ext cx="4175280" cy="432756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05720" y="5029200"/>
            <a:ext cx="1523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mand by Brit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73760" y="1081080"/>
            <a:ext cx="168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ly by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54280" y="1292400"/>
            <a:ext cx="1970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quilibriu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1 = £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6680" y="6172200"/>
            <a:ext cx="3173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ntity of US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2362320"/>
            <a:ext cx="83808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1249200" y="2102760"/>
            <a:ext cx="1460520" cy="454320"/>
          </a:xfrm>
          <a:prstGeom prst="rightArrow">
            <a:avLst>
              <a:gd name="adj1" fmla="val 50000"/>
              <a:gd name="adj2" fmla="val 160751"/>
            </a:avLst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rot="16200000">
            <a:off x="1249200" y="4465440"/>
            <a:ext cx="1460520" cy="454320"/>
          </a:xfrm>
          <a:prstGeom prst="rightArrow">
            <a:avLst>
              <a:gd name="adj1" fmla="val 50000"/>
              <a:gd name="adj2" fmla="val 160751"/>
            </a:avLst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48120" y="2828880"/>
            <a:ext cx="154548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US Dol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ppreci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48480" y="3587760"/>
            <a:ext cx="15285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US Dol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preci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600200" y="1066680"/>
            <a:ext cx="5708520" cy="4941720"/>
            <a:chOff x="1600200" y="1066680"/>
            <a:chExt cx="5708520" cy="4941720"/>
          </a:xfrm>
        </p:grpSpPr>
        <p:sp>
          <p:nvSpPr>
            <p:cNvPr id="75" name=""/>
            <p:cNvSpPr/>
            <p:nvPr/>
          </p:nvSpPr>
          <p:spPr>
            <a:xfrm>
              <a:off x="1636920" y="1066680"/>
              <a:ext cx="0" cy="4941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00200" y="5981400"/>
              <a:ext cx="5708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28600" y="1219320"/>
            <a:ext cx="1371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und£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llar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6:24:35Z</dcterms:created>
  <dc:creator>Ashley</dc:creator>
  <dc:description/>
  <dc:language>en-US</dc:language>
  <cp:lastModifiedBy>jclifford</cp:lastModifiedBy>
  <dcterms:modified xsi:type="dcterms:W3CDTF">2011-03-11T22:29:58Z</dcterms:modified>
  <cp:revision>24</cp:revision>
  <dc:subject/>
  <dc:title>Balance of Payments</dc:title>
</cp:coreProperties>
</file>